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7.png" ContentType="image/png"/>
  <Override PartName="/ppt/media/image28.png" ContentType="image/png"/>
  <Override PartName="/ppt/media/image5.png" ContentType="image/png"/>
  <Override PartName="/ppt/media/image27.jpeg" ContentType="image/jpe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4602-FEE2-49CC-BE36-078FEB02BAF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76FD-7B4D-4587-9061-78D18CD10CC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7554-25FB-4FB7-93CD-CF60ABBE1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0AF6-FE2B-4A0E-996F-C726BE75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9629-7CCC-4CA6-8E6F-447A7C783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304D-D290-406A-A537-AE652CD35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5070-DD47-4377-BF85-CDA56D245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77036-0394-416E-8411-B8B40B01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6FA3E-493E-4D55-89F8-A8A53ADA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0A316-DCD1-4CDF-9DE1-551AA62D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E80D-4A50-41E6-9236-E0583A0B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CC17-7E5E-4125-A036-6135625D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ADC5-9390-4B8B-9EE0-B8BCAB6A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6AEA-ADE1-4D8B-9E7C-DEDB2167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A037-E829-4AD7-9498-83346174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6743-CD24-4B3E-86E3-0F365FBF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F3D4-F21B-400B-A8CF-25660EF6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9D34-9034-4EAB-B6BA-D3B347B3C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7AC9C-20F7-4784-97F2-600EF5F76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DB025-B9E3-49D2-A38B-B5C425D0D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48495-8CF2-4A8E-9902-C777C63F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09B0A-572D-4B9B-9821-DDF27B60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1BF5D-B02C-4586-A9A8-A97B8318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AEEE7-B129-4D5C-B845-6FF1CFC9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B157-2EB6-412F-968E-4595F483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03FC6-11DC-4B94-8CBC-266E4012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922A8-E30C-47BE-9969-04B5544F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F4503-CDDE-46BE-A3BB-395D9428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3805D-8A94-4618-84AD-815AB91C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BAADC-746B-4485-8906-8AC030A4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77663-4579-4A67-922B-ABCECC28D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3C5B8-5CCE-473F-B1F7-3F0721EFA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E0D79-9F17-44DA-A9A5-0FCC73ECA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E2819-B856-46F5-82C6-D681AAD9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328BD-8B81-495A-AF7E-AA5AC50D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26B7-53D6-427A-8C51-1AFC52AD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3C236-D1DD-4254-BF98-C9D8412C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1B025-7651-425E-B4C7-33CC318F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198C2-8EA8-4597-BE0B-6EF177E1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AF267-CA88-4C80-A3A4-DC9CD8A3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075AE-BCE4-400A-B37E-0EA52029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D06A7-B77C-4A09-9B87-9ADEE761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D4AC1-94CB-4C72-998F-F9FD970E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A7DD0-582B-4818-986B-8A78DB92A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9D6A5-97C6-4CB5-89E8-C81F7F3C1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3A2F5-4143-4E64-925F-D880C8C15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C37D-8651-4F99-AB2E-6EE85EA1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3C8AD-10A8-4382-9B98-21FFF116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7AA5F-911E-4A98-A326-CBEBB1DE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B2636-B838-4947-A05F-A421D27E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BE49D-8860-4ACE-B53E-B3D6E87D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794CA-CF58-437B-8223-C427A6E9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D794D-34B8-4495-8F57-9FB7CD41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EEA57-2F8A-4F87-9209-126B8867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3EB2E-3307-40A4-A9F7-3CB564C4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34D49-F966-4E17-8234-360C6D71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50B49-AC6D-41DA-ADFA-59B881569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F5DB-BEAF-483D-A617-C6427B11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45833-7F13-4677-A4DE-C0D2C6340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BB66E-AD6A-472C-B4DE-0FA72EC0D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070D8-F977-4AC8-BD98-7AE00AAE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74F15-571D-4AFB-99BC-4CFE7C3A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C693F-8130-4853-BE5B-3DFD13D4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184A1-C178-43D2-88C8-36844160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53613-871A-4181-A044-A87B860B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C33F6-17CC-4B4D-98CD-6AD0D5AA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37DD8-3241-424D-9467-BCCD9B99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75166-83C3-4D2E-8DB4-98499985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0FF7-8219-4E68-881F-9EDD7F0D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C6D46-DE20-467B-8461-3B0C9710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4C2D3-2EB6-4446-8226-6B19C00D4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7AC46-61F2-4E0D-BFA5-2BEFE6232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7D3E0-CBAB-46A4-8C7A-5B479AEAC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223D1-68D8-4F64-A184-4C88337A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B4960-382B-4AF8-8572-9B99AA48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5A181-F450-44BB-AD5E-11B5729D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C8645-85AF-4F52-A31F-CC22F26C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758D8-7B38-4D83-9851-B9539D96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EAB79-2ECD-4AE3-B9E1-01B39757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8894-7A1C-46EE-A01E-B114D23F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C9F9C-6289-4A3E-B5CC-04E6E917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ECF37-C300-411D-BD87-D57AB657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0C959-27D1-40EE-9146-0BABF1BC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74AF1-DC92-4EA4-AE4D-2AC237342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816E2-116D-4027-912E-8D4D71A44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9CC4-30DB-4A62-9CA2-D352BF0E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BC82-FCD2-4E37-9913-10B4D5BAFDEF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Elipsa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Elipsa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Elipsa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17B5-6E8D-4575-840F-FB253EE48857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rostokąt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rostokąt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Elipsa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Elipsa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Elipsa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4830-5752-4ABB-BFC0-9EAFCFC99427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E203-7CB9-4130-A8FC-6C2BD8989A34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rostokąt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rostokąt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AEDB-1D7C-432C-9C3D-33E67EC8B19D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E904-DE3D-4C61-B8F0-5F8724400CD7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Prostokąt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Prostokąt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Schemat blokowy: proce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chemat blokowy: proce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FFAC-176C-4CAF-B91A-A87662179116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040" y="2204640"/>
            <a:ext cx="7545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300" spc="-1" strike="noStrike">
                <a:solidFill>
                  <a:srgbClr val="572314"/>
                </a:solidFill>
                <a:latin typeface="Book Antiqua"/>
              </a:rPr>
              <a:t>Figury </a:t>
            </a:r>
            <a:br>
              <a:rPr sz="4300"/>
            </a:br>
            <a:r>
              <a:rPr b="1" lang="pl-PL" sz="4300" spc="-1" strike="noStrike">
                <a:solidFill>
                  <a:srgbClr val="572314"/>
                </a:solidFill>
                <a:latin typeface="Book Antiqua"/>
              </a:rPr>
              <a:t>środkowosymetrycz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p:transition advTm="5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83628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Twierdzeni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042560" y="2565000"/>
            <a:ext cx="810108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Jeżeli figura ma dwie prostopadłe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do siebie osie symetrii, to punkt przecięcia się tych osi jest środkiem symetrii figury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Symbol zastępczy numeru slajdu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9EAD-CBB5-4335-80C0-29D7427C8290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9628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Zadanie 7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042560" y="980640"/>
            <a:ext cx="785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Podaj przykłady kilku figur, które mają środek symetri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(Możesz wykorzystać powyższe twierdzenie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advTm="7000">
    <p:zoom dir="out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Przykład 5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042560" y="4653000"/>
            <a:ext cx="7921800" cy="143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Dowolna prosta przechodząca przez środek okręgu jest jego osią symetrii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Symbol zastępczy numeru slajdu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B6EE-37BF-4EE0-B17C-C57269937BC7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Elipsa 5"/>
          <p:cNvSpPr/>
          <p:nvPr/>
        </p:nvSpPr>
        <p:spPr>
          <a:xfrm>
            <a:off x="4716360" y="1197000"/>
            <a:ext cx="3024360" cy="3024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Łącznik prosty 7"/>
          <p:cNvSpPr/>
          <p:nvPr/>
        </p:nvSpPr>
        <p:spPr>
          <a:xfrm>
            <a:off x="3924360" y="1700280"/>
            <a:ext cx="5040360" cy="2233440"/>
          </a:xfrm>
          <a:prstGeom prst="line">
            <a:avLst/>
          </a:prstGeom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Łącznik prosty 9"/>
          <p:cNvSpPr/>
          <p:nvPr/>
        </p:nvSpPr>
        <p:spPr>
          <a:xfrm flipH="1">
            <a:off x="5363640" y="549360"/>
            <a:ext cx="1800360" cy="4103640"/>
          </a:xfrm>
          <a:prstGeom prst="line">
            <a:avLst/>
          </a:prstGeom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zoom dir="ou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8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Przykład 6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971280" y="4941360"/>
            <a:ext cx="771516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Proste, które zawierają  przekątne kwadratu są jego osiami symetrii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Symbol zastępczy numeru slajdu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D44E-2B8F-43DB-A38B-867B24B3D961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rostokąt 15"/>
          <p:cNvSpPr/>
          <p:nvPr/>
        </p:nvSpPr>
        <p:spPr>
          <a:xfrm rot="1223400">
            <a:off x="5138280" y="1363680"/>
            <a:ext cx="2173320" cy="2143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Łącznik prosty 29"/>
          <p:cNvSpPr/>
          <p:nvPr/>
        </p:nvSpPr>
        <p:spPr>
          <a:xfrm>
            <a:off x="5292720" y="476280"/>
            <a:ext cx="194328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Łącznik prosty 33"/>
          <p:cNvSpPr/>
          <p:nvPr/>
        </p:nvSpPr>
        <p:spPr>
          <a:xfrm flipV="1">
            <a:off x="4067280" y="1197000"/>
            <a:ext cx="482580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zoom dir="ou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Przykład 7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5" name="Schemat blokowy: proces 3"/>
          <p:cNvSpPr/>
          <p:nvPr/>
        </p:nvSpPr>
        <p:spPr>
          <a:xfrm>
            <a:off x="3635280" y="1773360"/>
            <a:ext cx="3313080" cy="1726920"/>
          </a:xfrm>
          <a:prstGeom prst="flowChartProcess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Łącznik prosty 5"/>
          <p:cNvSpPr/>
          <p:nvPr/>
        </p:nvSpPr>
        <p:spPr>
          <a:xfrm>
            <a:off x="5292720" y="907920"/>
            <a:ext cx="0" cy="34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Łącznik prosty 7"/>
          <p:cNvSpPr/>
          <p:nvPr/>
        </p:nvSpPr>
        <p:spPr>
          <a:xfrm flipH="1">
            <a:off x="2700000" y="2637000"/>
            <a:ext cx="525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rostokąt 10"/>
          <p:cNvSpPr/>
          <p:nvPr/>
        </p:nvSpPr>
        <p:spPr>
          <a:xfrm>
            <a:off x="1042920" y="5157720"/>
            <a:ext cx="81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Symetralne boków prostokąta są jego osiami symetr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zoom dir="out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8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Przykład 8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042560" y="5013000"/>
            <a:ext cx="7777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Istnieją figury środkowosymetryczne nieposiadające żadnej osi symetrii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Symbol zastępczy numeru slajdu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2D5C-C386-418F-AAED-DA9566249226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chemat blokowy: proces 51"/>
          <p:cNvSpPr/>
          <p:nvPr/>
        </p:nvSpPr>
        <p:spPr>
          <a:xfrm>
            <a:off x="3564000" y="2205000"/>
            <a:ext cx="3456000" cy="86364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chemat blokowy: proces 52"/>
          <p:cNvSpPr/>
          <p:nvPr/>
        </p:nvSpPr>
        <p:spPr>
          <a:xfrm>
            <a:off x="3851280" y="3068640"/>
            <a:ext cx="576360" cy="43164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chemat blokowy: proces 53"/>
          <p:cNvSpPr/>
          <p:nvPr/>
        </p:nvSpPr>
        <p:spPr>
          <a:xfrm>
            <a:off x="6156360" y="1773360"/>
            <a:ext cx="576360" cy="43164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Elipsa 8"/>
          <p:cNvSpPr/>
          <p:nvPr/>
        </p:nvSpPr>
        <p:spPr>
          <a:xfrm flipV="1">
            <a:off x="5219640" y="2637000"/>
            <a:ext cx="73080" cy="71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zoom dir="out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Zadanie 8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Jeśli czworokąt ma środek symetrii, podaj jaki warunek muszą spełniać jego przekątn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Czy znasz figurę, która ma więcej niż jeden środek symetrii?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Jeśli tak, podaj przykład takiej figury</a:t>
            </a: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advTm="12000">
    <p:zoom dir="out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Uwaga !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971280" y="2060280"/>
            <a:ext cx="8172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Jeśli figura ma więcej niż jeden środek symetrii, to ma ich nieskończenie wiel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Book Antiqua"/>
              </a:rPr>
              <a:t>Przykłady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prosta, płaszczyzn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Symbol zastępczy numeru slajdu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D2EE-DFF5-4E89-87A2-15F8551F92EA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zoom dir="out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Zadanie 9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971280" y="1125360"/>
            <a:ext cx="8172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Które zdanie jest prawdziwe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Jeżeli czworokąt ma środek symetrii, to jest równoległobokiem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Trójkąt ma środek symetrii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Para prostych równoległych ma nieskończenie wiele środków symetrii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Środek symetrii figury zawsze do niej należy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Wielokąt, który ma parzystą liczbę boków ma dwa środki symetrii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Żaden siedmiokąt nie ma środka symetrii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advTm="26000">
    <p:zoom dir="out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Przykłady </a:t>
            </a:r>
            <a:br>
              <a:rPr sz="4300"/>
            </a:b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symetrii środkowej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14" name="Picture 2" descr="http://dogin.blox.pl/resource/plateklod.jpg"/>
          <p:cNvPicPr/>
          <p:nvPr/>
        </p:nvPicPr>
        <p:blipFill>
          <a:blip r:embed="rId1"/>
          <a:stretch/>
        </p:blipFill>
        <p:spPr>
          <a:xfrm>
            <a:off x="2987640" y="1700280"/>
            <a:ext cx="4362480" cy="4800600"/>
          </a:xfrm>
          <a:prstGeom prst="rect">
            <a:avLst/>
          </a:prstGeom>
          <a:ln w="0">
            <a:noFill/>
          </a:ln>
        </p:spPr>
      </p:pic>
    </p:spTree>
  </p:cSld>
  <p:transition advTm="8000">
    <p:zoom dir="out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Definic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042560" y="2276640"/>
            <a:ext cx="81010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Jeśli figura jest symetryczna sama do siebie względem pewnego punktu </a:t>
            </a:r>
            <a:r>
              <a:rPr b="1" lang="pl-PL" sz="3200" spc="-1" strike="noStrike">
                <a:solidFill>
                  <a:srgbClr val="ff0000"/>
                </a:solidFill>
                <a:latin typeface="Book Antiqua"/>
              </a:rPr>
              <a:t>S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, to punkt </a:t>
            </a:r>
            <a:r>
              <a:rPr b="1" lang="pl-PL" sz="3200" spc="-1" strike="noStrike">
                <a:solidFill>
                  <a:srgbClr val="ff0000"/>
                </a:solidFill>
                <a:latin typeface="Book Antiqua"/>
              </a:rPr>
              <a:t>S</a:t>
            </a:r>
            <a:r>
              <a:rPr b="0" lang="pl-PL" sz="32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nazywamy </a:t>
            </a:r>
            <a:r>
              <a:rPr b="1" lang="pl-PL" sz="3200" spc="-1" strike="noStrike">
                <a:solidFill>
                  <a:srgbClr val="000000"/>
                </a:solidFill>
                <a:latin typeface="Book Antiqua"/>
              </a:rPr>
              <a:t>środkiem symetrii 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figury, a taką figurę nazywamy</a:t>
            </a:r>
            <a:r>
              <a:rPr b="0" i="1" lang="pl-PL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pl-PL" sz="3200" spc="-1" strike="noStrike" u="sng">
                <a:solidFill>
                  <a:srgbClr val="000000"/>
                </a:solidFill>
                <a:uFillTx/>
                <a:latin typeface="Book Antiqua"/>
              </a:rPr>
              <a:t>środkowosymetryczną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Symbol zastępczy numeru slajdu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A7F1-1E17-433A-A9B0-C6C43EB4B85D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4" descr="snow_flake_01"/>
          <p:cNvPicPr/>
          <p:nvPr/>
        </p:nvPicPr>
        <p:blipFill>
          <a:blip r:embed="rId1"/>
          <a:stretch/>
        </p:blipFill>
        <p:spPr>
          <a:xfrm>
            <a:off x="1692360" y="549360"/>
            <a:ext cx="6335640" cy="5840280"/>
          </a:xfrm>
          <a:prstGeom prst="rect">
            <a:avLst/>
          </a:prstGeom>
          <a:ln w="0">
            <a:solidFill>
              <a:srgbClr val="daccab"/>
            </a:solidFill>
          </a:ln>
        </p:spPr>
      </p:pic>
    </p:spTree>
  </p:cSld>
  <p:transition advTm="3000">
    <p:zoom dir="out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4" descr="http://bialczynski.files.wordpress.com/2010/02/0-pipewort1.jpg"/>
          <p:cNvPicPr/>
          <p:nvPr/>
        </p:nvPicPr>
        <p:blipFill>
          <a:blip r:embed="rId1"/>
          <a:stretch/>
        </p:blipFill>
        <p:spPr>
          <a:xfrm>
            <a:off x="1258920" y="404640"/>
            <a:ext cx="7493040" cy="561672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5" descr="Rozeta"/>
          <p:cNvPicPr/>
          <p:nvPr/>
        </p:nvPicPr>
        <p:blipFill>
          <a:blip r:embed="rId1"/>
          <a:stretch/>
        </p:blipFill>
        <p:spPr>
          <a:xfrm>
            <a:off x="1476360" y="692280"/>
            <a:ext cx="7099200" cy="5325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advTm="4000">
    <p:zoom dir="out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http://e-witraze.pl/user_uploaded/1286452927.jpg"/>
          <p:cNvPicPr/>
          <p:nvPr/>
        </p:nvPicPr>
        <p:blipFill>
          <a:blip r:embed="rId1"/>
          <a:stretch/>
        </p:blipFill>
        <p:spPr>
          <a:xfrm>
            <a:off x="1835280" y="189000"/>
            <a:ext cx="6192720" cy="619272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4" descr="rozeta3_d"/>
          <p:cNvPicPr/>
          <p:nvPr/>
        </p:nvPicPr>
        <p:blipFill>
          <a:blip r:embed="rId1"/>
          <a:stretch/>
        </p:blipFill>
        <p:spPr>
          <a:xfrm>
            <a:off x="2268360" y="404640"/>
            <a:ext cx="5904000" cy="5904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advTm="4000">
    <p:zoom dir="out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http://us.123rf.com/400wm/400/400/evdoha/evdoha1012/evdoha101200407/8422448-mozaiki.jpg"/>
          <p:cNvPicPr/>
          <p:nvPr/>
        </p:nvPicPr>
        <p:blipFill>
          <a:blip r:embed="rId1"/>
          <a:stretch/>
        </p:blipFill>
        <p:spPr>
          <a:xfrm>
            <a:off x="1835280" y="549360"/>
            <a:ext cx="6481800" cy="5832360"/>
          </a:xfrm>
          <a:prstGeom prst="rect">
            <a:avLst/>
          </a:prstGeom>
          <a:ln w="0">
            <a:noFill/>
          </a:ln>
        </p:spPr>
      </p:pic>
    </p:spTree>
  </p:cSld>
  <p:transition advTm="6000">
    <p:zoom dir="out"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4" descr="moja_koszyczkowa"/>
          <p:cNvPicPr/>
          <p:nvPr/>
        </p:nvPicPr>
        <p:blipFill>
          <a:blip r:embed="rId1"/>
          <a:stretch/>
        </p:blipFill>
        <p:spPr>
          <a:xfrm>
            <a:off x="1547640" y="333360"/>
            <a:ext cx="6985080" cy="6121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advTm="4000">
    <p:zoom dir="out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2" descr="http://us.123rf.com/400wm/400/400/markovka/markovka1209/markovka120900050/15442671-ozdobny-wzor-koronki-runda-tlo-kolo-z-wieloma-szczegolami-wyglada-jak-szydelkowanie-recznie-koronki.jpg"/>
          <p:cNvPicPr/>
          <p:nvPr/>
        </p:nvPicPr>
        <p:blipFill>
          <a:blip r:embed="rId1"/>
          <a:stretch/>
        </p:blipFill>
        <p:spPr>
          <a:xfrm>
            <a:off x="2050920" y="549360"/>
            <a:ext cx="6143760" cy="601956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4" descr="http://www.piatnik.pl/Obrazy/karty_kodowane.jpg"/>
          <p:cNvPicPr/>
          <p:nvPr/>
        </p:nvPicPr>
        <p:blipFill>
          <a:blip r:embed="rId1"/>
          <a:stretch/>
        </p:blipFill>
        <p:spPr>
          <a:xfrm>
            <a:off x="1187280" y="476280"/>
            <a:ext cx="7777440" cy="5846760"/>
          </a:xfrm>
          <a:prstGeom prst="rect">
            <a:avLst/>
          </a:prstGeom>
          <a:ln w="0">
            <a:noFill/>
          </a:ln>
        </p:spPr>
      </p:pic>
    </p:spTree>
  </p:cSld>
  <p:transition advTm="5000">
    <p:zoom dir="out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5" descr=""/>
          <p:cNvPicPr/>
          <p:nvPr/>
        </p:nvPicPr>
        <p:blipFill>
          <a:blip r:embed="rId1"/>
          <a:stretch/>
        </p:blipFill>
        <p:spPr>
          <a:xfrm>
            <a:off x="2411280" y="260280"/>
            <a:ext cx="5256360" cy="5419800"/>
          </a:xfrm>
          <a:prstGeom prst="rect">
            <a:avLst/>
          </a:prstGeom>
          <a:ln w="0">
            <a:noFill/>
          </a:ln>
        </p:spPr>
      </p:pic>
      <p:sp>
        <p:nvSpPr>
          <p:cNvPr id="425" name="Prostokąt 2"/>
          <p:cNvSpPr/>
          <p:nvPr/>
        </p:nvSpPr>
        <p:spPr>
          <a:xfrm>
            <a:off x="1187280" y="5904000"/>
            <a:ext cx="756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Tempietto kaplica na dziedzińcu kościoła </a:t>
            </a:r>
            <a:r>
              <a:rPr b="1" i="1" lang="pl-PL" sz="2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San Pietro</a:t>
            </a:r>
            <a:r>
              <a:rPr b="1" lang="pl-PL" sz="2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w Rzym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zoom dir="out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8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Przykład 1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042560" y="5229000"/>
            <a:ext cx="74898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Środkiem symetrii okręgu jest jego środek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Symbol zastępczy numeru slajdu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9E9E-E3E8-4A1E-BEF9-D2BA153658A4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Elipsa 5"/>
          <p:cNvSpPr/>
          <p:nvPr/>
        </p:nvSpPr>
        <p:spPr>
          <a:xfrm>
            <a:off x="3419640" y="1773360"/>
            <a:ext cx="3168360" cy="3168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Elipsa 6"/>
          <p:cNvSpPr/>
          <p:nvPr/>
        </p:nvSpPr>
        <p:spPr>
          <a:xfrm flipH="1" flipV="1">
            <a:off x="5003640" y="3357000"/>
            <a:ext cx="46080" cy="44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ole tekstowe 7"/>
          <p:cNvSpPr/>
          <p:nvPr/>
        </p:nvSpPr>
        <p:spPr>
          <a:xfrm>
            <a:off x="4948560" y="29242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Gill Sans MT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1476360" y="3068640"/>
            <a:ext cx="722160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Book Antiqua"/>
              </a:rPr>
              <a:t>Pomysły zadań zostały zaczerpnięte z podręcznika do 1 klasy gimnazjum „Matematyka z plusem”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596880" indent="-5144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Book Antiqua"/>
              </a:rPr>
              <a:t>Adresy stron internetowych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871560" indent="-51444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Book Antiqua"/>
              </a:rPr>
              <a:t>SnowCrystals.co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871560" indent="-51444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Book Antiqua"/>
              </a:rPr>
              <a:t>www.hiren.inf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871560" indent="-51444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Book Antiqua"/>
              </a:rPr>
              <a:t>e-witraze.p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871560" indent="-51444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Book Antiqua"/>
              </a:rPr>
              <a:t>pl.123rf.com 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871560" indent="-51444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Book Antiqua"/>
              </a:rPr>
              <a:t>www.greatbuildings.co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871560" indent="-514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871560" indent="-51444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871560" indent="-51444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Symbol zastępczy numeru slajdu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D59A-FC45-4C8B-90CA-0D69A3AF9D36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7"/>
          <p:cNvSpPr/>
          <p:nvPr/>
        </p:nvSpPr>
        <p:spPr>
          <a:xfrm>
            <a:off x="1692360" y="981000"/>
            <a:ext cx="6480000" cy="1584360"/>
          </a:xfrm>
          <a:prstGeom prst="horizontalScroll">
            <a:avLst>
              <a:gd name="adj" fmla="val 12500"/>
            </a:avLst>
          </a:prstGeom>
          <a:solidFill>
            <a:srgbClr val="feb8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4f271c"/>
                </a:solidFill>
                <a:latin typeface="Gill Sans MT"/>
              </a:rPr>
              <a:t>Dziękuj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zoom dir="out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8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Przykład 2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042560" y="4797360"/>
            <a:ext cx="8101080" cy="13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Środkiem symetrii kwadratu jest punkt przecięcia jego przekątnych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Symbol zastępczy numeru slajdu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1856-5850-40D3-A067-0064EBFBF851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rostokąt 5"/>
          <p:cNvSpPr/>
          <p:nvPr/>
        </p:nvSpPr>
        <p:spPr>
          <a:xfrm>
            <a:off x="4716360" y="1268280"/>
            <a:ext cx="2664000" cy="2881440"/>
          </a:xfrm>
          <a:prstGeom prst="rect">
            <a:avLst/>
          </a:prstGeom>
          <a:solidFill>
            <a:srgbClr val="feb80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Łącznik prosty 11"/>
          <p:cNvSpPr/>
          <p:nvPr/>
        </p:nvSpPr>
        <p:spPr>
          <a:xfrm flipV="1">
            <a:off x="4716360" y="1268280"/>
            <a:ext cx="266400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Łącznik prosty 13"/>
          <p:cNvSpPr/>
          <p:nvPr/>
        </p:nvSpPr>
        <p:spPr>
          <a:xfrm>
            <a:off x="4716360" y="1268280"/>
            <a:ext cx="266400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ole tekstowe 8"/>
          <p:cNvSpPr/>
          <p:nvPr/>
        </p:nvSpPr>
        <p:spPr>
          <a:xfrm>
            <a:off x="5884200" y="227664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Gill Sans MT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zoom dir="ou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8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Przykład 3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Schemat blokowy: proces 3"/>
          <p:cNvSpPr/>
          <p:nvPr/>
        </p:nvSpPr>
        <p:spPr>
          <a:xfrm>
            <a:off x="3635280" y="1773360"/>
            <a:ext cx="3313080" cy="1726920"/>
          </a:xfrm>
          <a:prstGeom prst="flowChartProcess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Łącznik prosty 5"/>
          <p:cNvSpPr/>
          <p:nvPr/>
        </p:nvSpPr>
        <p:spPr>
          <a:xfrm>
            <a:off x="5292720" y="907920"/>
            <a:ext cx="0" cy="34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Łącznik prosty 7"/>
          <p:cNvSpPr/>
          <p:nvPr/>
        </p:nvSpPr>
        <p:spPr>
          <a:xfrm flipH="1">
            <a:off x="2700000" y="2637000"/>
            <a:ext cx="525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rostokąt 10"/>
          <p:cNvSpPr/>
          <p:nvPr/>
        </p:nvSpPr>
        <p:spPr>
          <a:xfrm>
            <a:off x="1042920" y="5157720"/>
            <a:ext cx="81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Środkiem symetrii prostokąta jest punkt przecięcia jego osi symetr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ole tekstowe 6"/>
          <p:cNvSpPr/>
          <p:nvPr/>
        </p:nvSpPr>
        <p:spPr>
          <a:xfrm>
            <a:off x="5235840" y="227664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Gill Sans MT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789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Przykład 4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042560" y="5013000"/>
            <a:ext cx="7777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F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igura środkowosymetryczna nieposiadająca żadnej osi symetrii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Symbol zastępczy numeru slajdu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6E97-F982-43F2-8D3B-796C4E2D9D30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chemat blokowy: proces 51"/>
          <p:cNvSpPr/>
          <p:nvPr/>
        </p:nvSpPr>
        <p:spPr>
          <a:xfrm>
            <a:off x="3564000" y="2205000"/>
            <a:ext cx="3456000" cy="86364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chemat blokowy: proces 52"/>
          <p:cNvSpPr/>
          <p:nvPr/>
        </p:nvSpPr>
        <p:spPr>
          <a:xfrm>
            <a:off x="3851280" y="3068640"/>
            <a:ext cx="576360" cy="43164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chemat blokowy: proces 53"/>
          <p:cNvSpPr/>
          <p:nvPr/>
        </p:nvSpPr>
        <p:spPr>
          <a:xfrm>
            <a:off x="6156360" y="1773360"/>
            <a:ext cx="576360" cy="43164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Łącznik prosty 9"/>
          <p:cNvSpPr/>
          <p:nvPr/>
        </p:nvSpPr>
        <p:spPr>
          <a:xfrm>
            <a:off x="3564000" y="2205000"/>
            <a:ext cx="3456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Łącznik prosty 11"/>
          <p:cNvSpPr/>
          <p:nvPr/>
        </p:nvSpPr>
        <p:spPr>
          <a:xfrm flipV="1">
            <a:off x="3564000" y="2204640"/>
            <a:ext cx="3456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Łącznik prosty 13"/>
          <p:cNvSpPr/>
          <p:nvPr/>
        </p:nvSpPr>
        <p:spPr>
          <a:xfrm flipV="1">
            <a:off x="3851280" y="1773000"/>
            <a:ext cx="2881440" cy="17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ole tekstowe 14"/>
          <p:cNvSpPr/>
          <p:nvPr/>
        </p:nvSpPr>
        <p:spPr>
          <a:xfrm>
            <a:off x="5164560" y="234936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Gill Sans MT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zoom dir="ou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356000" y="475920"/>
            <a:ext cx="4484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Uwaga !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067280" y="1988640"/>
            <a:ext cx="4680000" cy="28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Obracając figurę środkowosymetryczną o 180</a:t>
            </a:r>
            <a:r>
              <a:rPr b="0" lang="pl-PL" sz="3200" spc="-1" strike="noStrike" baseline="30000">
                <a:solidFill>
                  <a:srgbClr val="000000"/>
                </a:solidFill>
                <a:latin typeface="Book Antiqua"/>
              </a:rPr>
              <a:t>0 </a:t>
            </a:r>
            <a:r>
              <a:rPr b="0" lang="pl-PL" sz="3200" spc="-1" strike="noStrike">
                <a:solidFill>
                  <a:srgbClr val="000000"/>
                </a:solidFill>
                <a:latin typeface="Book Antiqua"/>
              </a:rPr>
              <a:t>wokół środka symetrii, otrzymamy tę samą figurę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Symbol zastępczy numeru slajdu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B386-3534-4E1A-8766-2681BA01DE84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5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3274920" cy="3888000"/>
          </a:xfrm>
          <a:prstGeom prst="rect">
            <a:avLst/>
          </a:prstGeom>
          <a:ln w="0">
            <a:noFill/>
          </a:ln>
        </p:spPr>
      </p:pic>
    </p:spTree>
  </p:cSld>
  <p:transition advTm="7000"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1042560" y="189000"/>
            <a:ext cx="7891560" cy="13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572314"/>
                </a:solidFill>
                <a:latin typeface="Book Antiqua"/>
              </a:rPr>
              <a:t>	</a:t>
            </a:r>
            <a:r>
              <a:rPr b="0" lang="pl-PL" sz="4000" spc="-1" strike="noStrike">
                <a:solidFill>
                  <a:srgbClr val="572314"/>
                </a:solidFill>
                <a:latin typeface="Book Antiqua"/>
              </a:rPr>
              <a:t>Zadanie 4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Book Antiqua"/>
              </a:rPr>
              <a:t>Które ze znaków drogowych mają środki symetrii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3" name="Picture 2" descr="C:\Users\Operator\Desktop\przykłady_symetrii\znaki drogowe\a_07.png"/>
          <p:cNvPicPr/>
          <p:nvPr/>
        </p:nvPicPr>
        <p:blipFill>
          <a:blip r:embed="rId1"/>
          <a:stretch/>
        </p:blipFill>
        <p:spPr>
          <a:xfrm>
            <a:off x="3132000" y="3068640"/>
            <a:ext cx="1143000" cy="10159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C:\Users\Operator\Desktop\przykłady_symetrii\znaki drogowe\a_32.png"/>
          <p:cNvPicPr/>
          <p:nvPr/>
        </p:nvPicPr>
        <p:blipFill>
          <a:blip r:embed="rId2"/>
          <a:stretch/>
        </p:blipFill>
        <p:spPr>
          <a:xfrm>
            <a:off x="1403280" y="1628640"/>
            <a:ext cx="1143000" cy="10162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C:\Users\Operator\Desktop\przykłady_symetrii\znaki drogowe\b_03.png"/>
          <p:cNvPicPr/>
          <p:nvPr/>
        </p:nvPicPr>
        <p:blipFill>
          <a:blip r:embed="rId3"/>
          <a:stretch/>
        </p:blipFill>
        <p:spPr>
          <a:xfrm>
            <a:off x="1476360" y="29973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C:\Users\Operator\Desktop\przykłady_symetrii\znaki drogowe\b_01.png"/>
          <p:cNvPicPr/>
          <p:nvPr/>
        </p:nvPicPr>
        <p:blipFill>
          <a:blip r:embed="rId4"/>
          <a:stretch/>
        </p:blipFill>
        <p:spPr>
          <a:xfrm>
            <a:off x="3132000" y="15573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9" descr="C:\Users\Operator\Desktop\przykłady_symetrii\znaki drogowe\d_01.png"/>
          <p:cNvPicPr/>
          <p:nvPr/>
        </p:nvPicPr>
        <p:blipFill>
          <a:blip r:embed="rId5"/>
          <a:stretch/>
        </p:blipFill>
        <p:spPr>
          <a:xfrm>
            <a:off x="3203640" y="4508640"/>
            <a:ext cx="1092240" cy="10922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4" descr="C:\Users\Operator\AppData\Local\Microsoft\Windows\Temporary Internet Files\Content.IE5\A4KG3B2Y\MC900346301[1].wmf"/>
          <p:cNvPicPr/>
          <p:nvPr/>
        </p:nvPicPr>
        <p:blipFill>
          <a:blip r:embed="rId6"/>
          <a:stretch/>
        </p:blipFill>
        <p:spPr>
          <a:xfrm>
            <a:off x="4716360" y="155736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7" descr="C:\Users\Operator\Desktop\przykłady_symetrii\znaki drogowe\b_36.png"/>
          <p:cNvPicPr/>
          <p:nvPr/>
        </p:nvPicPr>
        <p:blipFill>
          <a:blip r:embed="rId7"/>
          <a:stretch/>
        </p:blipFill>
        <p:spPr>
          <a:xfrm>
            <a:off x="6300720" y="155736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8" descr="C:\Users\Operator\AppData\Local\Microsoft\Windows\Temporary Internet Files\Content.IE5\ICFVKMCT\MC900411382[1].wmf"/>
          <p:cNvPicPr/>
          <p:nvPr/>
        </p:nvPicPr>
        <p:blipFill>
          <a:blip r:embed="rId8"/>
          <a:stretch/>
        </p:blipFill>
        <p:spPr>
          <a:xfrm>
            <a:off x="4643280" y="4437000"/>
            <a:ext cx="1432080" cy="11509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9" descr="C:\Users\Operator\AppData\Local\Microsoft\Windows\Temporary Internet Files\Content.IE5\ZJ902C1U\MC900411258[1].wmf"/>
          <p:cNvPicPr/>
          <p:nvPr/>
        </p:nvPicPr>
        <p:blipFill>
          <a:blip r:embed="rId9"/>
          <a:stretch/>
        </p:blipFill>
        <p:spPr>
          <a:xfrm>
            <a:off x="1476360" y="4437000"/>
            <a:ext cx="1233360" cy="11588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http://library.kiwix.org/wikipedia_pl_dvd_2006_beta1/I/ZNAK_B_2.PNG"/>
          <p:cNvPicPr/>
          <p:nvPr/>
        </p:nvPicPr>
        <p:blipFill>
          <a:blip r:embed="rId10"/>
          <a:stretch/>
        </p:blipFill>
        <p:spPr>
          <a:xfrm>
            <a:off x="6300720" y="2924280"/>
            <a:ext cx="1135080" cy="11365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http://library.kiwix.org/wikipedia_pl_dvd_2006_beta1/I/ZNAK_C12.PNG"/>
          <p:cNvPicPr/>
          <p:nvPr/>
        </p:nvPicPr>
        <p:blipFill>
          <a:blip r:embed="rId11"/>
          <a:stretch/>
        </p:blipFill>
        <p:spPr>
          <a:xfrm>
            <a:off x="6227640" y="43657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6" descr="http://library.kiwix.org/wikipedia_pl_dvd_2006_beta1/I/ZNAK_A_5.PNG"/>
          <p:cNvPicPr/>
          <p:nvPr/>
        </p:nvPicPr>
        <p:blipFill>
          <a:blip r:embed="rId12"/>
          <a:stretch/>
        </p:blipFill>
        <p:spPr>
          <a:xfrm>
            <a:off x="4716360" y="3068640"/>
            <a:ext cx="1224000" cy="1060560"/>
          </a:xfrm>
          <a:prstGeom prst="rect">
            <a:avLst/>
          </a:prstGeom>
          <a:ln w="0">
            <a:noFill/>
          </a:ln>
        </p:spPr>
      </p:pic>
    </p:spTree>
  </p:cSld>
  <p:transition advTm="8000">
    <p:zoom dir="ou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1042920" y="0"/>
            <a:ext cx="785016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pl-PL" sz="4300" spc="-1" strike="noStrike">
                <a:solidFill>
                  <a:srgbClr val="572314"/>
                </a:solidFill>
                <a:latin typeface="Book Antiqua"/>
              </a:rPr>
              <a:t>Zadanie 5.</a:t>
            </a:r>
            <a:endParaRPr b="0" lang="en-US" sz="43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572314"/>
                </a:solidFill>
                <a:latin typeface="Book Antiqua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Book Antiqua"/>
              </a:rPr>
              <a:t>Wskaż litery i liczby, które posiadają środki symetrii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4800" spc="-1" strike="noStrike">
                <a:solidFill>
                  <a:srgbClr val="000000"/>
                </a:solidFill>
                <a:latin typeface="Gill Sans MT"/>
              </a:rPr>
              <a:t>A, B, C, D, E, F, H, I, M,</a:t>
            </a:r>
            <a:br>
              <a:rPr sz="4800"/>
            </a:br>
            <a:r>
              <a:rPr b="0" lang="pl-PL" sz="4800" spc="-1" strike="noStrike">
                <a:solidFill>
                  <a:srgbClr val="000000"/>
                </a:solidFill>
                <a:latin typeface="Gill Sans MT"/>
              </a:rPr>
              <a:t>N, O, S, T, U, W, X, Y, Z  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4800" spc="-1" strike="noStrike">
                <a:solidFill>
                  <a:srgbClr val="000000"/>
                </a:solidFill>
                <a:latin typeface="Gill Sans MT"/>
              </a:rPr>
              <a:t>0,1, 8, 11, 33, 66, 69, 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4800" spc="-1" strike="noStrike">
                <a:solidFill>
                  <a:srgbClr val="000000"/>
                </a:solidFill>
                <a:latin typeface="Gill Sans MT"/>
              </a:rPr>
              <a:t>88, 96 101, 609, 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Symbol zastępczy numeru slajdu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EC51-4910-460A-8730-A86DBCFF1C4C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zoom dir="ou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9T16:08:14Z</dcterms:created>
  <dc:creator>Home</dc:creator>
  <dc:description/>
  <dc:language>en-US</dc:language>
  <cp:lastModifiedBy>Ania</cp:lastModifiedBy>
  <dcterms:modified xsi:type="dcterms:W3CDTF">2013-06-11T22:03:48Z</dcterms:modified>
  <cp:revision>18</cp:revision>
  <dc:subject/>
  <dc:title>Figury  środkowosymetryczne</dc:title>
</cp:coreProperties>
</file>